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7B7-6ABE-445F-954D-7835D390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67A-D884-4F1B-9893-550C4375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D15E-E518-41E5-B27E-6ED4E4BA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7A3-0EDE-4E0F-B0DF-D3097264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8F7-10FE-4F18-95F1-3B806255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A6B-3135-4447-96DD-3C16B070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81C-D3A6-4785-97F2-B611F15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6806F-0C51-41DD-AEF6-F0AA84A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DBD7-83E2-4F0D-99EA-5B58DB9B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70BC-D8D7-4398-A185-6B91AFCE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4DC86-2658-4922-B9FD-FBC2D45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B9764-5F95-4DED-92CF-C775B3F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5BA57-6415-4655-8271-A4B6464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048E0-0CEF-470D-9092-6F272511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F450-8827-4EAF-94FC-DB62354B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2C2F-5EBE-4F3D-A8B5-A7F7F0E5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06CD9-3DC8-4A34-93A1-0DC0B830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998-29E5-4BE1-986C-5C635C87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726A-3AE6-4C94-86D0-CC417E12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F25BF-F2A5-477F-97B5-0F12A96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87806-F243-4804-B495-DB38CAE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CF648-83BE-4C72-B716-C5FE8FB1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6C1D9-D8F3-4EA0-8C3A-F51BD14D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2C278-F412-48FB-9775-9B2EFE96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3E53-DA58-4F2D-A67D-E1C5331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679D5-20F3-4D20-BBE0-2516EAB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EEA66-A5F1-4B2A-86DD-0B33F91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187A-7D3C-4167-8399-65358016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636-D68B-4F65-B68A-11E7732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136EA-B03F-4E8B-86E9-ECFC4B87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DD3DE-C469-4A2F-91D1-189F85CB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152E-AD60-4A71-A97F-14C63C61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06153-CBFD-470B-9BA5-70A686C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06240-EAF8-4CBD-9E5E-FA0A1DA7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AAB71-A019-4D3D-855F-A364CAF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D6CFC-D2DC-47C6-947F-9B70DA3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A52F9-22E9-4EB7-91EE-E600E76D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7587-731B-4EAC-B9EB-3F9CEFF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7CDD6-C770-4A62-AF48-1892279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872-215A-4458-832F-E47933AA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74F0F-8F1A-4C1C-9EF7-1C17E78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4D59-7A76-4941-A6A0-B94F6306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3565-31A2-4F78-85F9-1292B11D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D18DD-19D9-4BEB-8EC7-FCE9DFFF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4A0C6-A000-4EB8-B892-03D97AD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532C5-9DEC-453F-B296-9CB2B8E1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F4DA7-6D80-435C-AA47-F3865CF0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1CEC1-F05E-4A2C-A414-2B43EE1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1A397-9909-4CB2-AC03-ED020DA8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53AF2-2D9C-4228-B3C5-314E6BB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A36-0599-4EF5-90B3-8F52A7A8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94543-DED7-4504-8120-2280249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7DD80-DEDB-4F67-97A4-7034F007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9618B-4A7E-4D24-B9A3-008A3E10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DB073-05D3-431A-8E27-E47CEFEE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AD4C-0C8D-4194-8700-733308C3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719DD-6F27-4538-93F8-1C2A2AB5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AA838-F4AE-4100-804F-3D507D57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BDD40-D957-4C8D-9F8A-792ADFF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710E9-A480-42EC-9BFC-7FA3A3E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31FCC-FCD2-4499-AFBB-97466BFE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45CE-DA5F-4705-BA61-D9F0EA5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5B0D7-C712-455D-BDC8-29D3E761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0321A-59CF-4E69-A096-2CDB238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ED80E-0597-47F9-A26A-A69322B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ECC6D-2E69-40A9-8D03-DC84986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D8248-C74C-4D44-83DE-4A093294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271C8-DCAD-4A07-BA5D-53005592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38082-07C2-446C-9267-6DD4E9AD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F6ED2-E7D8-4A11-81DC-1164D702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BE6E1-532E-43A9-98BC-C5CBA599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04D08-39CB-4F37-A50D-4071590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2E0-C27E-470D-BAEA-AA87C88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80B2C-B232-415D-B0A5-4AF21F0E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D648C-C7FA-40E0-ADC3-1A8878F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0BFBF-3758-4A43-8A4D-1D3FFDA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BD614-DFBA-4C91-A5A0-9C8FF3E5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CFB06-19B9-4D14-BB5F-6CE887A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C2916-1FAA-43AB-8FC8-4DADE3F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495C8-893E-4909-8D24-1CF1626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ED087-E5F1-4A27-BF02-7F8301CB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74D51-2269-49AE-9EB8-FDBA363D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37E3E-2CEF-4ED4-B21D-28223BC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58C-D665-44BF-A0C8-37882369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44FE1-BC97-4BE7-9A7A-991752F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E9B0A-BE16-4AE9-A90D-63F6B30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75A53-FA2B-40B0-8F43-DD466AB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A053C-BCE4-4856-A118-7625E0EF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B20AC-1BF8-4E8F-BCC5-95384D6C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0AD1F-5750-4186-A033-9A5EC5D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9CCA3-A6BA-4A12-B398-8996AED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7E0CD-356C-42A8-99D1-14DAA96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9B0A4-379D-466C-AC51-253A01A6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DB00A-59AF-4C63-80CC-39A063C4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D92-B881-49D9-909D-5A26F70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04541-4A9E-462C-B70A-54E3DF46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D5D5A-742F-49D3-9880-3B7D6C95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1F65C-1532-417B-9C27-DD5CFB6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8561F-F905-4D51-B5E5-E104F183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6E1C-9647-449A-8620-29DE005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FE92B-EACA-4E8F-8243-799C243A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66412-8181-44A6-9FBB-3C08FCA6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0A69B-ACAC-4037-9343-BE3BE82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557F9-6E79-4577-B4CF-5A10FC92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69582-84AC-47D1-8A52-CE5E9B9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F1E7-1DB7-41B0-B8BB-A0447FB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71889-FAE0-4877-B651-650475B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596A3-266B-4D09-BCE8-C78585B7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680D6-D994-497F-993C-D7918F31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80422-D9CF-449E-9C44-1648C963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ACF79-5B98-4DE1-A09A-EE45BF8A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BE862-B08E-479F-AC4B-B43EA2E7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71457-8DAB-49C1-AD9F-92BA546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62582-B91A-4A7B-B967-28CEC12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7517D-ACC2-4EC2-9D4D-EE4288C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B04F5-9B89-489F-852D-2605F97A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024-B383-472E-BBCE-B957E15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CD22-FBF4-477B-955F-C4E2544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47A69-27F0-412E-923A-D16FB46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8568F-BB7B-40CD-8AA6-F95F8C0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F6BBC-B963-421A-BE2E-C6918695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FCAF1-775E-401F-B82B-7A9EA642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E7FA7-8ECE-4E96-A0EF-A37A96DB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C8A43-A081-4FEA-BA9C-700E3C28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0AEE5-2C52-480D-B6CB-C224775A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E9471-D265-4CA2-B43C-638599FC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04E88-D297-4878-828E-AE14084C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6DB77-B015-4B5F-9174-E05F7DE1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3B6-014B-4701-B8CE-39ABED5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CC817-9D9E-483D-B088-5A370CA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5EB01-6537-47D5-B7BC-CA328D3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91EB2-7278-44CA-A5FB-22B73AE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6305F-E8DF-447A-AC58-84457CF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7308C-50B9-48E2-A50B-544BF18C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89F16-2980-4377-B57F-585CBC1D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018E0-2EC6-47A9-9DF1-13006885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7D0-B363-4C54-8B31-03F1A32E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E86-6E57-43C0-AE03-98DB726A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C39F-1AA8-4C09-9F21-22679D86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138176-FC93-4164-A0E0-89CA427D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9D62B7-D895-4909-B747-DD92AED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03087F-779A-4EC5-8055-A2CF1A0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5B7E54-C5B0-4826-BB67-F06843EF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61E994-BABC-4519-8108-B7FABED9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15303E-3F71-4771-9143-EA17B68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B1C533-8FE7-4389-98AC-CC833B7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0E0784-AC4F-427D-9966-57C7C67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929B7F-F0B6-473D-A0A7-306C03B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5ADA-1A39-40A4-97B1-A21C433A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CB3757-0582-4C67-95B6-F014AB9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465B04-F87B-4C14-AC7D-5F449326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C9F838-5E7B-4E91-A381-65717FAC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48820D-E841-43F7-80F8-C56805B2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947FD6-C448-4A8E-A0DC-662423CB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2CDE41-1F97-4A6C-9FAE-4B00883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DF2D31-E620-421C-AACC-8FEAC837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E39A36B-B289-4224-B3EC-8771DBA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8E32FC-E1EF-43A8-8220-5DC59D9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93B38F-037B-465C-8175-683805A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39323-8212-4945-855C-228EA240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BB6029-B9B8-4FE0-8106-BCE1734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777B58C-96CC-4143-BB7E-586CEE5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2743E8-1801-44E2-B222-1EA2E803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B2011F-2ECB-4801-A7A5-3C6065C3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2EF94C-3BC1-42B3-8426-C56BCD4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D1CD60F-90BB-464C-B7CE-011A7348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C14AA1-D118-4B79-A38D-A251CF64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A55CE0-9D71-4C04-9B62-B53C53C7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22B2205-B2A9-4EC7-8F23-5F86DD2B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65C8A9-B767-48F6-B577-E7FF0D1C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2F77-4C6C-4254-BD81-5E6286A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74C9C6E-0D74-444B-BFAE-F31A9CD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9DC052A-124C-4863-8949-D2A4D44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1CC553-17BF-4815-AB67-CA576CA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4ECFBF-A46E-44B2-9361-A886183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1B9C9DF-F788-440F-BB57-77CF3FC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D671AB-5E60-4DC2-A77E-C1236744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660318-908B-4E6A-B746-97BB7AF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6A100A-315D-4F0B-96B0-A597A956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9F785D-4B7F-4AE5-98F4-9C7C89E6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E74E97-C648-49D7-99A0-52FCE3A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CEC4-7072-4515-A187-21CA5E9C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77A118-6959-462E-8523-0BF5023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BF18F1-199B-44C3-8CAF-A2082EA5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62EEF6-8316-4122-9991-AEE1FFE5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7D12A62-0847-4098-9DFD-5FA7BA6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BD3431-5A00-4557-A931-C16392D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50A8D0-D64B-4FBB-B5E0-A3CED7EB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52E35E-7D01-48A5-8A0C-EF3D7AE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81083F-1869-4FEF-AE42-8C6CD47D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EE1A22-4B81-4D25-92B2-266FBED6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58D6-C9DC-4FCB-A49E-59C411F0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A46-1851-42C0-9A70-0E8F9641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DB4D-55ED-4001-B593-2FC7CE9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E872-E404-471B-ACED-87731AC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7EF0-2E17-40E9-BDEC-EE669FF2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2587-DEAF-4992-8184-2C47416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B4F6-B13A-4624-92B4-2A7220D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B7E1-C026-4F21-BD46-ABD37730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1561-1F01-4459-BD88-7E6B2C52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53BE-BE4C-43DC-97FA-4171BDF5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9191-34FB-4830-B77F-5FA3556A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062F-9F90-4C80-98C0-99B97D19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24A-810A-4701-A8E0-7C10C9C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CCE0-B4ED-4EA6-B94F-4B93BEDC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9C82-4DFE-4AAF-BDDC-B0B399A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ABC7-F8E4-4D59-8B05-689AC78B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B19FB-FDB5-4377-9704-E5CF5CF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7D4F-9960-4BAE-BA89-E0C19C5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E216-D52D-4982-9DD4-D8EA6F8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E0C5-2ABC-42AE-8207-EA4B6B9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3550-B85F-4B6D-BDB5-E86FEA3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E912-2EAA-4D83-8070-1137238C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FDF8-1C4D-4E60-A1A7-BA3B0141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2DA-C134-415A-B585-10B38E41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E218-3142-41DA-B8A7-806A7AC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83CB-21AF-4CFC-A618-48BC86AF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13D8-C68B-475D-A968-3C74C04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D1D7-FE5E-4250-93CB-EC5E6667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1765-1E0C-474C-82EC-F5D9A38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85977-0207-4B2C-B001-39D8F7D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AE77-57AF-4342-8B23-7CB5DBC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556F-ECB1-4018-9381-E72454A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3787-0925-4CC6-89C1-3C4FC1A2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16791-E50F-43DC-8036-252EAE90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1BA-25D5-40DA-92BA-01553529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128D-F080-4612-8908-3D4BFD19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0CDE-8CA3-4EAC-81F1-49FA00FE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F6C3-A887-4904-81AB-BE70FB0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74B6-CE7A-49DC-A802-75B7D4B0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508D-4476-4C41-A2A6-43A0B73B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8B2A5-C8AD-4317-8D62-7557FB10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2D51-1E2A-4DA2-823F-92CD72E7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43BB-FBC1-41CC-8537-3C574129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70CD-324F-45C7-AB0B-F4C8B0E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7310-261D-4715-98C4-7017B41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62C-7681-4B5E-905D-E0A9CC8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A0CA-BB2C-4A4E-AA3A-83364F5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6C97-2902-46DC-9623-927C5970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C4840-270F-4E30-B935-CBAF5E2B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10E5-A15F-43B9-A601-CBFA30D8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24415-A71A-4343-B665-F67DBCD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389C-0730-4854-9E83-134C359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EA2D-D193-4734-990C-2BFC24BD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9A3F-1D7D-42BC-9F33-FD5E834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E2C13-EAAF-4EA2-B907-8099394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001C-50A5-461B-9BAD-BD79017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66C-57AA-40DC-B502-8D14265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5623-1D39-4419-BC37-F6CE1B2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17BF-C3CB-46CB-BC83-9F0DE4F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5106-0991-41A4-9505-60A1E22C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4F9E-D204-4B60-B585-2F9DFF0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96B9-FB24-4BE0-ADF6-2D7004B4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C231-7210-4314-8D52-5AA30A9A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BCF6-8736-479B-950D-971B914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FB72-7B2F-4156-85DD-845C91F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39FAB-956D-4E55-9A2E-E8C01CB9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842A-C48E-40C5-BD19-324D8C2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DF1-DA15-4249-A71D-9310AA7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417F-0B96-4130-A392-2CCFBE2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88E2-01BE-41E9-BD00-CFA0BEB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83CF-6C9A-4171-8E98-35DD063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B484-DE98-4333-8CE1-91E50D7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0ED13-8603-409D-89DD-87F92687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6A62-707B-41E9-BD14-DD65F842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6B035-48C4-4CDC-9B79-CD37E282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4853-270F-412E-9FF3-69D8ED78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4A7D8-82DF-4AA2-8418-560FAAA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B28B6-DFEF-4EEA-9A04-425377F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5E15-0ED6-4BC1-8C4B-4D882DC78B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428B-2254-4275-B78D-046F63BFB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0DF9-AFF8-4D6D-B7C9-DC77E865E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72AD-E470-4D46-ADB5-1089FB78C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D2D-FB23-4A98-BE07-93C57926A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4108-6536-440E-88EE-51F32BE926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0A18-C579-4F24-84B7-3369A5DFCF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40F-1DB0-4BD1-BEA4-2ED5616ECD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0698-CEAB-4ED1-AF4B-D925AD5866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C1B4-4B52-4919-9765-C14541422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5000-493E-45AC-B3F4-0AF5F675A2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51A9-0410-48AC-BBA2-D33A567758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4DF8-36C1-4F01-AFE7-C73AEA7A1E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C3B-7CA1-4AA6-9DC9-97BC12FEE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B43-63BF-46FA-A2AA-2C437BE0A4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0872-FD8F-43BA-BBA6-482BC90479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A16-65C2-4189-8D62-9393391230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19AA-59E5-42CD-8885-DB5C7DCAF0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259-E041-47D6-8B68-C2266C31BD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BDB-EFF3-4E97-9293-94665F5BBD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6FC-6746-4B1D-902B-7CC13D1EE5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4F94-98D9-477F-9D06-DABF5CB13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236-F0CA-4BE3-93CD-FAE25BE0332B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ome examples/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B2B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B2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E-mai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stant messaging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line shopping and order trac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line bank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hopping cart softwa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leconferenc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lectronic tick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usto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,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,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`Wikipedia – E-commerce´, http://en.wikipedia.org/wiki/E-commerce , 22/05/20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`Wikipedia – Internet´, http://en.wikipedia.org/wiki/Internet , 22/05/20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15" name="Picture 4" descr="pirate63"/>
          <p:cNvPicPr/>
          <p:nvPr/>
        </p:nvPicPr>
        <p:blipFill>
          <a:blip r:embed="rId2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 descrip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0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(AICPA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2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2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415440" y="2755800"/>
            <a:ext cx="8309160" cy="3492720"/>
          </a:xfrm>
          <a:prstGeom prst="rect">
            <a:avLst/>
          </a:prstGeom>
          <a:ln w="0">
            <a:noFill/>
          </a:ln>
        </p:spPr>
      </p:pic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2:37:44Z</dcterms:created>
  <dc:creator>Microsoft</dc:creator>
  <dc:description/>
  <dc:language>en-US</dc:language>
  <cp:lastModifiedBy>Office 2004 Test Drive User</cp:lastModifiedBy>
  <dcterms:modified xsi:type="dcterms:W3CDTF">2010-05-24T03:33:20Z</dcterms:modified>
  <cp:revision>32</cp:revision>
  <dc:subject/>
  <dc:title>Internet</dc:title>
</cp:coreProperties>
</file>